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6B7-0401-4775-BF5E-2C41A7AF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C70-A1B4-44A3-9C4D-D43AB357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CF3-7456-440A-A16F-6C2B4510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CFF-D591-4175-BD6A-0478815D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819-70D4-4157-89EB-AFEDD1BB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251-39BA-4B84-96C6-3E5DC6B5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024-A7CB-459C-B05A-CE60DED0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5F50-39E0-4195-BF62-818EBC91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3308-79FA-4D5F-9FA6-054059A2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EE8-35E5-4E61-9E62-5A7DE1F2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BE16-EC99-44C4-8C40-BA4C22BC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6DF-83BA-4689-ADEA-1A1519A9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ADD0-EBB2-4726-9C8B-F3222624E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Bradley Hand ITC"/>
              </a:rPr>
              <a:t>A small sample of our class work </a:t>
            </a: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Bradley Hand ITC"/>
              </a:rPr>
              <a:t>supporting this project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Initial Garden Design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Q &amp; A’s about purpose of Gard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Q &amp; A’s about sustainabil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Photos of the class in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80880"/>
            <a:ext cx="8305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Bradley Hand ITC"/>
              </a:rPr>
              <a:t>Room 14’s Garden and Pizza Oven Project</a:t>
            </a:r>
            <a:br>
              <a:rPr sz="6000"/>
            </a:br>
            <a:r>
              <a:rPr b="1" lang="en-US" sz="4400" spc="-1" strike="noStrike">
                <a:solidFill>
                  <a:srgbClr val="33cc33"/>
                </a:solidFill>
                <a:latin typeface="Bradley Hand ITC"/>
              </a:rPr>
              <a:t>- Meadowbank School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4585" t="0" r="6785" b="3334"/>
          <a:stretch/>
        </p:blipFill>
        <p:spPr>
          <a:xfrm>
            <a:off x="152280" y="152280"/>
            <a:ext cx="4419720" cy="6629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24280" y="1522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241880" cy="3181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286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3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7724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573800" cy="6553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4856" t="0" r="6142" b="3531"/>
          <a:stretch/>
        </p:blipFill>
        <p:spPr>
          <a:xfrm>
            <a:off x="4519440" y="152280"/>
            <a:ext cx="4395960" cy="6553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7031" r="0" b="27350"/>
          <a:stretch/>
        </p:blipFill>
        <p:spPr>
          <a:xfrm>
            <a:off x="380880" y="3429000"/>
            <a:ext cx="3733920" cy="3267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81880" cy="6094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03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519" t="0" r="8308" b="3851"/>
          <a:stretch/>
        </p:blipFill>
        <p:spPr>
          <a:xfrm>
            <a:off x="152280" y="152280"/>
            <a:ext cx="4368960" cy="655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52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7724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3435" t="0" r="7022" b="3088"/>
          <a:stretch/>
        </p:blipFill>
        <p:spPr>
          <a:xfrm>
            <a:off x="4572000" y="152280"/>
            <a:ext cx="4403880" cy="655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267440" cy="3202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280" y="3505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77240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4:45:16Z</dcterms:created>
  <dc:creator> </dc:creator>
  <dc:description/>
  <dc:language>en-US</dc:language>
  <cp:lastModifiedBy> </cp:lastModifiedBy>
  <dcterms:modified xsi:type="dcterms:W3CDTF">2009-04-30T05:05:56Z</dcterms:modified>
  <cp:revision>4</cp:revision>
  <dc:subject/>
  <dc:title>Slide 1</dc:title>
</cp:coreProperties>
</file>